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2.wmf" ContentType="image/x-wmf"/>
  <Override PartName="/ppt/media/image8.png" ContentType="image/png"/>
  <Override PartName="/ppt/media/image5.gif" ContentType="image/gif"/>
  <Override PartName="/ppt/media/image16.wmf" ContentType="image/x-wmf"/>
  <Override PartName="/ppt/media/image19.wmf" ContentType="image/x-wmf"/>
  <Override PartName="/ppt/media/image1.wmf" ContentType="image/x-wmf"/>
  <Override PartName="/ppt/media/image18.gif" ContentType="image/gif"/>
  <Override PartName="/ppt/media/image17.wmf" ContentType="image/x-wmf"/>
  <Override PartName="/ppt/media/image14.wmf" ContentType="image/x-wmf"/>
  <Override PartName="/ppt/media/image10.wmf" ContentType="image/x-wmf"/>
  <Override PartName="/ppt/media/image4.wmf" ContentType="image/x-wmf"/>
  <Override PartName="/ppt/media/image2.gif" ContentType="image/gif"/>
  <Override PartName="/ppt/media/image13.wmf" ContentType="image/x-wmf"/>
  <Override PartName="/ppt/media/image6.wmf" ContentType="image/x-wmf"/>
  <Override PartName="/ppt/media/image7.png" ContentType="image/png"/>
  <Override PartName="/ppt/media/image15.wmf" ContentType="image/x-wmf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A8B-0E5B-4C91-BBFE-ADE9EE0C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7C6F-BC37-4D12-9284-03C3C101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CA1-A8B2-4A59-9681-97C1FD2C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299-E864-4DC0-B7D0-84932FB1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D8A-F58C-4A6C-9AAB-518018F8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0CC-9052-4EBD-90DA-438E36D8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BDC-5D64-45C3-A9B6-37190A04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817-87DA-4DB8-BFC7-394935F6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7F8-E946-4069-9C0B-DB83FF03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5A3-A64A-4E69-9707-EAA7BA79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319-555D-4D94-B756-FC62D71F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F5D-E399-409A-9FFE-9651365A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EBDC-8E06-4B12-AC95-D8B3D44E6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file:///tmp/home/.config/libreoffice/4/user/gallery/shksuk04.wav" TargetMode="External"/><Relationship Id="rId4" Type="http://schemas.microsoft.com/office/2007/relationships/media" Target="file:///tmp/home/.config/libreoffice/4/user/gallery/shksuk04.wav" TargetMode="External"/><Relationship Id="rId5" Type="http://schemas.openxmlformats.org/officeDocument/2006/relationships/image" Target="../media/image7.png"/><Relationship Id="rId6" Type="http://schemas.openxmlformats.org/officeDocument/2006/relationships/audio" Target="file:///tmp/home/.config/libreoffice/4/user/gallery/MSSN00821A0000%5B1%5D.wav" TargetMode="External"/><Relationship Id="rId7" Type="http://schemas.microsoft.com/office/2007/relationships/media" Target="file:///tmp/home/.config/libreoffice/4/user/gallery/MSSN00821A0000%5B1%5D.wav" TargetMode="External"/><Relationship Id="rId8" Type="http://schemas.openxmlformats.org/officeDocument/2006/relationships/image" Target="../media/image7.png"/><Relationship Id="rId9" Type="http://schemas.openxmlformats.org/officeDocument/2006/relationships/audio" Target="file:///tmp/home/.config/libreoffice/4/user/gallery/MSj03885290000%5B1%5D.wav" TargetMode="External"/><Relationship Id="rId10" Type="http://schemas.microsoft.com/office/2007/relationships/media" Target="file:///tmp/home/.config/libreoffice/4/user/gallery/MSj03885290000%5B1%5D.wav" TargetMode="External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8.png"/><Relationship Id="rId14" Type="http://schemas.openxmlformats.org/officeDocument/2006/relationships/image" Target="../media/image9.wmf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s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Glar.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: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1889280" cy="186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3962520"/>
            <a:ext cx="106524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46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sign out and 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ign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sign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05520" y="4038480"/>
            <a:ext cx="2797200" cy="1968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9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good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ad .i.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410080" y="1824120"/>
            <a:ext cx="2514600" cy="1395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86400" y="3625920"/>
            <a:ext cx="1981080" cy="183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take a sip of your dr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dr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248520" y="2666880"/>
          <a:ext cx="6094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666880"/>
                    <a:ext cx="60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64008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audi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7162920" y="312408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7696080" y="1371600"/>
          <a:ext cx="304920" cy="30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696080" y="13716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5889600" y="3809880"/>
            <a:ext cx="15289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3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633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63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266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42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  <p:audio isNarration="0">
              <p:cMediaNode showWhenStopped="1">
                <p:cTn/>
                <p:tgtEl>
                  <p:spTgt spid="56"/>
                </p:tgtEl>
              </p:cMediaNode>
            </p:audio>
            <p:audio isNarration="0">
              <p:cMediaNode showWhenStopped="1">
                <p:cTn/>
                <p:tgtEl>
                  <p:spTgt spid="57"/>
                </p:tgtEl>
              </p:cMediaNode>
            </p:audio>
            <p:seq>
              <p:cTn id="2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8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:A person who tells 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Fil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stor. y. tel. 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29200" y="2666880"/>
            <a:ext cx="2514600" cy="250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9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use with permission  Synonyms: l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:st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Bor.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27160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1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Spanish word for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mov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Li. 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1752480" cy="1973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686560" y="3962520"/>
            <a:ext cx="1950840" cy="2055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9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spanish word for thank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thank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Gra.c.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510000" cy="1387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4120" y="3697200"/>
            <a:ext cx="2361960" cy="1892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0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exited, su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ex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s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Ea. 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95880" y="2036880"/>
            <a:ext cx="2712960" cy="4002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9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t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Your teeth cli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cli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bou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c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chat.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3733920" cy="3421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3" dur="1" fill="hold"/>
                                  <p:tgtEl>
                                    <p:spTgt spid="8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3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2-05T23:00:13Z</dcterms:modified>
  <cp:revision>6</cp:revision>
  <dc:subject/>
  <dc:title>PowerPoint Presentation</dc:title>
</cp:coreProperties>
</file>